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295E-DC55-4FC4-B6E2-D517231179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E2D9-3BBA-4B0D-832E-7384FA7D80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F786-6095-4084-90E9-A7B2689130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BDDB-E0B2-4ACC-AAF7-37BF1421DD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AEC7-A8CD-49E6-BB66-B2D102C611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02CC-10E9-430D-A69B-64C0A8D77A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A977-2474-40AF-A80E-21F5F37023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9A58-880E-4998-B8A5-6C89EB5B94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846F-3513-4311-9F1F-DDDBCAFE05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0991-4217-4312-AEF4-8B8368552D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A60-9321-4121-A832-1D38D019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B16-371E-4656-803E-34E7F2B2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823-E692-4055-8922-53DA213F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1C2-E206-40AF-B7D2-EF4A65CE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8B1C-1223-49BB-85B4-15EF66D2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FFBE-AA61-4F0C-BDC1-BCDB0E7E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1A7A-C18E-4C39-8654-002EFE3E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D92C-7F19-46D4-A349-9C581FEA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3ED9-401E-4089-AC23-333EF501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9227-16EF-4270-A548-E8DE819B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E61D-2F4F-4BF5-B71B-CCC2AF99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C51-502C-43B0-9B5F-96E1692F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D351-0996-471E-AEC1-C7292D59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FD1B-6067-49BD-B357-0F32030B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D4FD-2786-44D3-897A-C9133C7C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C39B-F9A5-4DA0-8373-820AD095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24C4-CA65-4ADE-8F1A-88A48321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A3B-DF06-4895-8A59-DA87CBFB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3B33-CBA1-419B-93E2-286B69AF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9C9-694C-4C52-A9A6-A04316C0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BA3-7333-4231-A607-BC7D1946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501-F841-4D71-820D-A69FE972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FDC-7C23-4E8B-9441-900B0E22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ECC-0E64-4089-AFDD-795498F2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8D78-0F40-4E82-99FA-7252B5A566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D5A1-6A95-491B-AAD8-6CD9719D8E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Ж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14680" y="2428920"/>
            <a:ext cx="7351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Б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643040" y="1928880"/>
            <a:ext cx="7421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8" descr=""/>
          <p:cNvPicPr/>
          <p:nvPr/>
        </p:nvPicPr>
        <p:blipFill>
          <a:blip r:embed="rId1"/>
          <a:stretch/>
        </p:blipFill>
        <p:spPr>
          <a:xfrm>
            <a:off x="1714680" y="2214720"/>
            <a:ext cx="6864120" cy="1643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2643120" y="2357280"/>
            <a:ext cx="5716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356560" y="2143080"/>
            <a:ext cx="7146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214720" y="2143080"/>
            <a:ext cx="78552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142360" y="2214720"/>
            <a:ext cx="71460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071800" y="242892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2071080" y="271476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2071800" y="3000240"/>
            <a:ext cx="35712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0"/>
          <p:cNvSpPr/>
          <p:nvPr/>
        </p:nvSpPr>
        <p:spPr>
          <a:xfrm>
            <a:off x="3071160" y="2500200"/>
            <a:ext cx="21420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2"/>
          <p:cNvSpPr/>
          <p:nvPr/>
        </p:nvSpPr>
        <p:spPr>
          <a:xfrm>
            <a:off x="2928960" y="2500200"/>
            <a:ext cx="2858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4"/>
          <p:cNvSpPr/>
          <p:nvPr/>
        </p:nvSpPr>
        <p:spPr>
          <a:xfrm>
            <a:off x="357192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6"/>
          <p:cNvSpPr/>
          <p:nvPr/>
        </p:nvSpPr>
        <p:spPr>
          <a:xfrm>
            <a:off x="357192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38"/>
          <p:cNvSpPr/>
          <p:nvPr/>
        </p:nvSpPr>
        <p:spPr>
          <a:xfrm>
            <a:off x="357192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0"/>
          <p:cNvSpPr/>
          <p:nvPr/>
        </p:nvSpPr>
        <p:spPr>
          <a:xfrm>
            <a:off x="357192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42"/>
          <p:cNvSpPr/>
          <p:nvPr/>
        </p:nvSpPr>
        <p:spPr>
          <a:xfrm>
            <a:off x="357192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Соединительная линия уступом 44"/>
          <p:cNvCxnSpPr/>
          <p:nvPr/>
        </p:nvCxnSpPr>
        <p:spPr>
          <a:xfrm>
            <a:off x="357192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3" name="Прямая соединительная линия 46"/>
          <p:cNvSpPr/>
          <p:nvPr/>
        </p:nvSpPr>
        <p:spPr>
          <a:xfrm>
            <a:off x="357192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48"/>
          <p:cNvSpPr/>
          <p:nvPr/>
        </p:nvSpPr>
        <p:spPr>
          <a:xfrm>
            <a:off x="357192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0"/>
          <p:cNvSpPr/>
          <p:nvPr/>
        </p:nvSpPr>
        <p:spPr>
          <a:xfrm>
            <a:off x="357192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68"/>
          <p:cNvSpPr/>
          <p:nvPr/>
        </p:nvSpPr>
        <p:spPr>
          <a:xfrm flipH="1">
            <a:off x="4928760" y="2214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0"/>
          <p:cNvSpPr/>
          <p:nvPr/>
        </p:nvSpPr>
        <p:spPr>
          <a:xfrm>
            <a:off x="6000840" y="278604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2"/>
          <p:cNvSpPr/>
          <p:nvPr/>
        </p:nvSpPr>
        <p:spPr>
          <a:xfrm>
            <a:off x="6000840" y="292896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4"/>
          <p:cNvSpPr/>
          <p:nvPr/>
        </p:nvSpPr>
        <p:spPr>
          <a:xfrm>
            <a:off x="6000840" y="307188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86"/>
          <p:cNvSpPr/>
          <p:nvPr/>
        </p:nvSpPr>
        <p:spPr>
          <a:xfrm>
            <a:off x="6000840" y="321480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88"/>
          <p:cNvSpPr/>
          <p:nvPr/>
        </p:nvSpPr>
        <p:spPr>
          <a:xfrm>
            <a:off x="6000840" y="335772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90"/>
          <p:cNvSpPr/>
          <p:nvPr/>
        </p:nvSpPr>
        <p:spPr>
          <a:xfrm>
            <a:off x="6000840" y="3500280"/>
            <a:ext cx="107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04"/>
          <p:cNvSpPr/>
          <p:nvPr/>
        </p:nvSpPr>
        <p:spPr>
          <a:xfrm>
            <a:off x="592920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6"/>
          <p:cNvSpPr/>
          <p:nvPr/>
        </p:nvSpPr>
        <p:spPr>
          <a:xfrm>
            <a:off x="592920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08"/>
          <p:cNvSpPr/>
          <p:nvPr/>
        </p:nvSpPr>
        <p:spPr>
          <a:xfrm>
            <a:off x="592920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22"/>
          <p:cNvSpPr/>
          <p:nvPr/>
        </p:nvSpPr>
        <p:spPr>
          <a:xfrm flipH="1">
            <a:off x="385560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26"/>
          <p:cNvSpPr/>
          <p:nvPr/>
        </p:nvSpPr>
        <p:spPr>
          <a:xfrm flipH="1">
            <a:off x="3712680" y="2357280"/>
            <a:ext cx="180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6"/>
          <p:cNvSpPr/>
          <p:nvPr/>
        </p:nvSpPr>
        <p:spPr>
          <a:xfrm flipH="1">
            <a:off x="785772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50"/>
          <p:cNvSpPr/>
          <p:nvPr/>
        </p:nvSpPr>
        <p:spPr>
          <a:xfrm flipH="1">
            <a:off x="75009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54"/>
          <p:cNvSpPr/>
          <p:nvPr/>
        </p:nvSpPr>
        <p:spPr>
          <a:xfrm flipH="1">
            <a:off x="764388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6"/>
          <p:cNvSpPr/>
          <p:nvPr/>
        </p:nvSpPr>
        <p:spPr>
          <a:xfrm flipH="1">
            <a:off x="778680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1714680" y="2428920"/>
            <a:ext cx="6987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букву написанную правильно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857240" y="1643040"/>
            <a:ext cx="67057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714680" y="2286000"/>
            <a:ext cx="7292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785960" y="2143080"/>
            <a:ext cx="72057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517760" y="3127320"/>
          <a:ext cx="6108480" cy="60336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603360">
                <a:tc>
                  <a:txBody>
                    <a:bodyPr lIns="3042000" rIns="304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1704960" y="2214720"/>
            <a:ext cx="7143840" cy="22143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4443480" y="-305640"/>
            <a:ext cx="25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12T19:16:01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